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CDF-990B-4018-BAEC-3F10186D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4E5-2B08-4425-9164-7CE9B380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75A-EF2D-48F1-ADA6-79265B20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092-5A03-434D-9D2C-AD667D49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B3E-A6F0-4907-8E90-5F1CD27F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77D-769E-4323-9F32-0481A086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2EB-A789-4AD6-B61D-6E33F3A8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E2A-F011-4A8B-87C7-17818FBE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2D8-56C6-41F4-85A3-56605F86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F365-013A-4A8C-A8E1-DD82A3EB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B2D-25D3-4D23-AFA1-DAB70C24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4E10-E3F5-4CDD-86FC-D1B41B6C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95AB-19D8-4CBF-B25B-433702C3C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1676160" cy="99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Calligraphy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648320"/>
            <a:ext cx="1067040" cy="99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76520"/>
            <a:ext cx="1067040" cy="990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666880"/>
            <a:ext cx="106704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65760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638680"/>
            <a:ext cx="106704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52760" y="5618160"/>
            <a:ext cx="106668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563868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3760" y="5656320"/>
            <a:ext cx="106668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5638680"/>
            <a:ext cx="106668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4648320"/>
            <a:ext cx="106668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lligraphy"/>
              </a:rPr>
              <a:t>Skip a 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3657600"/>
            <a:ext cx="106668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266688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676520"/>
            <a:ext cx="106668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68580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685800"/>
            <a:ext cx="106668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685800"/>
            <a:ext cx="106704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685800"/>
            <a:ext cx="10666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806480" y="2584440"/>
            <a:ext cx="3014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Lucida Calligraphy"/>
              </a:rPr>
              <a:t>ERIE CANAL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Lucida Calligraphy"/>
              <a:ea typeface="Lucida Calligraphy"/>
            </a:endParaRPr>
          </a:p>
        </p:txBody>
      </p:sp>
      <p:sp>
        <p:nvSpPr>
          <p:cNvPr id="60" name=""/>
          <p:cNvSpPr/>
          <p:nvPr/>
        </p:nvSpPr>
        <p:spPr>
          <a:xfrm>
            <a:off x="8839080" y="892080"/>
            <a:ext cx="914400" cy="60984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029440" y="663480"/>
            <a:ext cx="1114560" cy="1036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344680" y="3659040"/>
            <a:ext cx="1919520" cy="1536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145280" y="3352680"/>
            <a:ext cx="1114560" cy="103680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6877080" y="2622600"/>
            <a:ext cx="1650600" cy="2819520"/>
            <a:chOff x="6877080" y="2622600"/>
            <a:chExt cx="1650600" cy="2819520"/>
          </a:xfrm>
        </p:grpSpPr>
        <p:sp>
          <p:nvSpPr>
            <p:cNvPr id="65" name=""/>
            <p:cNvSpPr/>
            <p:nvPr/>
          </p:nvSpPr>
          <p:spPr>
            <a:xfrm rot="16200000">
              <a:off x="7144920" y="2819520"/>
              <a:ext cx="459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6292440" y="3206880"/>
              <a:ext cx="2819520" cy="165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77800" y="5618160"/>
            <a:ext cx="1036800" cy="1036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841920" y="5656320"/>
            <a:ext cx="1076040" cy="960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840200" y="3621240"/>
            <a:ext cx="1114560" cy="1036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4840200" y="663480"/>
            <a:ext cx="1114560" cy="1036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615960" y="2622600"/>
            <a:ext cx="1114560" cy="1036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915240" y="4467240"/>
            <a:ext cx="153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7080" y="46195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Game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685800"/>
            <a:ext cx="106668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3657600"/>
            <a:ext cx="1067040" cy="990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85800"/>
            <a:ext cx="106704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676520"/>
            <a:ext cx="106704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2666880"/>
            <a:ext cx="10670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4648320"/>
            <a:ext cx="1067040" cy="99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63868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5638680"/>
            <a:ext cx="106668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563868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5638680"/>
            <a:ext cx="106704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4648320"/>
            <a:ext cx="106704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3657600"/>
            <a:ext cx="1067040" cy="990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2666880"/>
            <a:ext cx="106704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1676520"/>
            <a:ext cx="106704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lligraphy"/>
              </a:rPr>
              <a:t>Go bac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685800"/>
            <a:ext cx="106704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68580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685800"/>
            <a:ext cx="106668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685800"/>
            <a:ext cx="10670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2920" y="3657600"/>
            <a:ext cx="167616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2666880"/>
            <a:ext cx="106704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67480" y="1676520"/>
            <a:ext cx="1067040" cy="990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2666880"/>
            <a:ext cx="1066680" cy="990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2666880"/>
            <a:ext cx="106668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28954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28954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10800" y="4849920"/>
            <a:ext cx="1187280" cy="1447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-457200" y="89856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107120" y="4735440"/>
            <a:ext cx="1838520" cy="2122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038240" y="1662120"/>
            <a:ext cx="1114560" cy="1036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038240" y="4619520"/>
            <a:ext cx="1114560" cy="1036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189240" y="5618160"/>
            <a:ext cx="1114560" cy="1036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4226040" y="3659040"/>
            <a:ext cx="1114200" cy="1036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4226040" y="663480"/>
            <a:ext cx="1114200" cy="1036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7451640" y="663480"/>
            <a:ext cx="111456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02:40:31Z</dcterms:created>
  <dc:creator>Connie Campbell</dc:creator>
  <dc:description/>
  <dc:language>en-US</dc:language>
  <cp:lastModifiedBy>Kathy</cp:lastModifiedBy>
  <dcterms:modified xsi:type="dcterms:W3CDTF">2010-02-07T20:46:12Z</dcterms:modified>
  <cp:revision>8</cp:revision>
  <dc:subject/>
  <dc:title>Slide 1</dc:title>
</cp:coreProperties>
</file>